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BD889-C080-442A-877F-9627E7682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1FEBD-25EF-4E93-A287-4B2ABB93D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38D8F-3AFE-41D3-A459-180A074D2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7DB23-68FD-4E9E-922F-28CE31429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333FD9-A0D7-4DCC-A7E4-7B7D914F91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BCB10-102A-45E7-A003-4A28B2B8F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561C8-802F-47BA-8BDF-322FFBD53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0DE75-2C96-48C8-8C51-E2D3AF584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D250D-0B58-4096-AE0C-4F3FBD5AB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855CA-728C-4AF6-97CE-82E3F4FEE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A12D4-F0D4-442C-AD11-E46ADC0E3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EA00F-BC2D-432E-93E0-EDDC1B061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63D37-F791-4C3C-B6FB-E223D2A88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631AB-7302-44FD-81DD-56233271B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27894-1BAE-4D6C-BE4A-3141C59B1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404B9-60DF-4BBD-B273-E300D053DF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D6B941-E6C9-44E6-AC8B-7915FD6851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265BD-C5E4-4118-91F2-2059384B3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F3640-F4D8-44A5-A23D-13C9707CB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213C4-1982-458C-94B2-4B9B08F7E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F4DEF-68F9-4CC7-9B99-848C9D2DB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53D68-FA00-4850-9B6D-DEB1E4BC4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3BE9D-3416-4ADE-9EDC-568F750EA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92EB9-420E-42E4-8648-9DAEA04D7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F8F54-D00A-46C3-A482-E15BC9068463}"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63849-9579-499C-800F-5B3606C7F9D0}"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拯救情绪  放飞心灵</a:t>
            </a:r>
            <a:br>
              <a:rPr sz="4400"/>
            </a:br>
            <a:r>
              <a:rPr b="0" lang="zh-CN" sz="4400" spc="-1" strike="noStrike">
                <a:solidFill>
                  <a:srgbClr val="ffffff"/>
                </a:solidFill>
                <a:latin typeface="隶书"/>
                <a:ea typeface="隶书"/>
              </a:rPr>
              <a:t>     ——大学生心理健康讲座</a:t>
            </a:r>
            <a:endParaRPr b="0" lang="en-US" sz="4400" spc="-1" strike="noStrike">
              <a:solidFill>
                <a:srgbClr val="ccffff"/>
              </a:solidFill>
              <a:latin typeface="Impact"/>
            </a:endParaRPr>
          </a:p>
        </p:txBody>
      </p:sp>
      <p:sp>
        <p:nvSpPr>
          <p:cNvPr id="13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                </a:t>
            </a:r>
            <a:r>
              <a:rPr b="0" lang="zh-CN" sz="2800" spc="-1" strike="noStrike">
                <a:solidFill>
                  <a:srgbClr val="ffffff"/>
                </a:solidFill>
                <a:latin typeface="Impact"/>
                <a:ea typeface="隶书"/>
              </a:rPr>
              <a:t>杨凤池</a:t>
            </a:r>
            <a:r>
              <a:rPr b="0" lang="zh-CN" sz="2800" spc="-1" strike="noStrike">
                <a:solidFill>
                  <a:srgbClr val="ffffff"/>
                </a:solidFill>
                <a:latin typeface="Impact"/>
                <a:ea typeface="黑体"/>
              </a:rPr>
              <a:t>          </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首都医科大学心理学与行为科学教研室</a:t>
            </a:r>
            <a:endParaRPr b="0" lang="en-US" sz="2800" spc="-1" strike="noStrike">
              <a:solidFill>
                <a:srgbClr val="ffffff"/>
              </a:solidFill>
              <a:latin typeface="Impact"/>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pic>
        <p:nvPicPr>
          <p:cNvPr id="136" name="" descr=""/>
          <p:cNvPicPr/>
          <p:nvPr/>
        </p:nvPicPr>
        <p:blipFill>
          <a:blip r:embed="rId1"/>
          <a:stretch/>
        </p:blipFill>
        <p:spPr>
          <a:xfrm>
            <a:off x="5181480" y="2743200"/>
            <a:ext cx="3810240" cy="27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过于追求完美</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几乎每个人都有自己想象中完美的生活。但是，很少有人感到事业与家庭都合乎他们想象的标准。例如有一位男士说，他的家族没有人离过婚，在他看来婚姻是一生一世的事。因此，当他和前妻结婚五年、儿子三岁离婚时，他整个人垮掉了，觉得自己是个窝囊废。他的情绪糟糕至此，原因在于他无法摆脱“完美”家庭的想象。</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与别人比较</a:t>
            </a:r>
            <a:endParaRPr b="0" lang="en-US" sz="44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多数人都拿自己与我们认为人生顺利的人比较，这些人可能是亲友、也可能是我们认识得很浅的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然而，我们忽略了一个重要的问题：每一个人都有自己独特的经历，每一个顺利人生的背后都有一个艰辛的故事。如果我们不知道，仅仅是我们对这个人生还不了解而已。</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隶书"/>
              </a:rPr>
              <a:t>过分注意缺憾</a:t>
            </a: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隶书"/>
              </a:rPr>
              <a:t>破坏快乐的有效方法莫过于对任何事物都只注意瑕疵，例如抬头注视天花板时，只盯着缺了块板的地方，心里总是不快。一旦你找出自己缺了那块天花板，就要探讨：若重新补上这块天花板是否真的可以使你快乐。</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宋体"/>
                <a:ea typeface="隶书"/>
              </a:rPr>
              <a:t>结论</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人的一生遭遇和他会多快乐并无太大关联，我们都认识一些人，生活颇为顺利，但从根本上说不快乐；我们也知道有些人吃过不少苦头，却能乐天知命处世。</a:t>
            </a: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感激</a:t>
            </a:r>
            <a:endParaRPr b="0" lang="en-US" sz="4400" spc="-1" strike="noStrike">
              <a:solidFill>
                <a:srgbClr val="ccffff"/>
              </a:solidFill>
              <a:latin typeface="Impact"/>
            </a:endParaRPr>
          </a:p>
        </p:txBody>
      </p:sp>
      <p:sp>
        <p:nvSpPr>
          <p:cNvPr id="16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快乐的人都存有</a:t>
            </a:r>
            <a:r>
              <a:rPr b="1" lang="zh-CN" sz="3200" spc="-1" strike="noStrike">
                <a:solidFill>
                  <a:srgbClr val="ffffff"/>
                </a:solidFill>
                <a:latin typeface="宋体"/>
                <a:ea typeface="隶书"/>
              </a:rPr>
              <a:t>感激之心，无感激之心的人不会</a:t>
            </a:r>
            <a:r>
              <a:rPr b="1" lang="zh-CN" sz="3200" spc="-1" strike="noStrike">
                <a:solidFill>
                  <a:srgbClr val="ffffff"/>
                </a:solidFill>
                <a:latin typeface="Impact"/>
                <a:ea typeface="隶书"/>
              </a:rPr>
              <a:t>快乐。我们总以为人是因为不快乐才抱怨，其实抱怨让人不快乐的说法更有道理。</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行动</a:t>
            </a:r>
            <a:endParaRPr b="0" lang="en-US" sz="4400" spc="-1" strike="noStrike">
              <a:solidFill>
                <a:srgbClr val="ccffff"/>
              </a:solidFill>
              <a:latin typeface="Impac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要知道快乐是另一件事情的副产品。最明显的快乐源泉是有明确生活目标的活动，你越是投入你所喜爱的活动，就越可体验到更多的快乐。</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活就象是玩扑克，发到的那手牌是定了的，但你的打法是属于你的自由意志的。”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尼赫鲁</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播下一个行动，你将收获一种习惯；播下一种习惯，你将收获一种性格；播下一种性格，你将收获一种命运。”       </a:t>
            </a: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拿破仑</a:t>
            </a: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生动地把自己想象成失败者，就会使你不能取胜；生动地把自己想象成胜利者，将会带来无法估量的成功。伟大的人生以你想象中的图画——你希望取得什么成就，作一个什么样的人——作为开端。”</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                                  </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哈利</a:t>
            </a: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爱墨生</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弱者等待时机，强者创造时机。”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居里夫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焦虑——紧张</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续或发作性地出现焦虑、紧张、不安、烦躁，经常提心吊胆、对未来有不祥的预感，高度的警觉状态、容易激动。 </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抑郁——郁闷</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久的情绪低落、忧郁。对外界的人和事兴趣降低；悲观、失望，厌世而不能自拔，；注意力难以集中，易疲劳；食欲低下；自我评价降低</a:t>
            </a:r>
            <a:r>
              <a:rPr b="0" lang="zh-CN" sz="2800" spc="-1" strike="noStrike">
                <a:solidFill>
                  <a:srgbClr val="ffffff"/>
                </a:solidFill>
                <a:latin typeface="Times New Roman"/>
              </a:rPr>
              <a:t>。</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命的意义既不能模仿也不能引进，它只能由每个人在各自不同的存在环境中寻找和发现。人类的目标不是寻求心理或灵魂的安宁，而是在现实到理想的健康奋斗中体验生命的意义。生命的意义来自于个人在与责任相连的自由中运用有意识和无意识的人类精神力量。”</a:t>
            </a:r>
            <a:br>
              <a:rPr sz="3200"/>
            </a:br>
            <a:r>
              <a:rPr b="1" lang="zh-CN" sz="3200" spc="-1" strike="noStrike">
                <a:solidFill>
                  <a:srgbClr val="ffffff"/>
                </a:solidFill>
                <a:latin typeface="宋体"/>
                <a:ea typeface="隶书"/>
              </a:rPr>
              <a:t>                                               ——维克多</a:t>
            </a: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弗兰克尔</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恐惧——害怕</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当置身于特定处境时，出现强烈恐惧或紧张不安的内心体验。</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强迫——刻板</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对某些观念和行为明知不合理、不必要、但自己无法控制。如反复重复某些动作</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如洗手</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 </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情绪调节与成功</a:t>
            </a:r>
            <a:br>
              <a:rPr sz="4400"/>
            </a:b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认识现实及自我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克服非理性思维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自我激励与强化</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挖掘自我的潜能</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采取适宜的行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ffffff"/>
                </a:solidFill>
                <a:latin typeface="隶书"/>
                <a:ea typeface="隶书"/>
              </a:rPr>
              <a:t>健康的心态</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内心安宁平和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生活的实在感</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具有无差别感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不急于追求结果</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心理健康标准</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思维符合现实；</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情绪愉快稳定；</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意志坚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人格健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人际关系协调。</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具有我国特色的心理健康口诀</a:t>
            </a:r>
            <a:endParaRPr b="0" lang="en-US" sz="44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顺其自然、不问过去、为所当为</a:t>
            </a:r>
            <a:br>
              <a:rPr sz="2800"/>
            </a:b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无我之境、无极之心、</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事实唯真、行动唯真。</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宽心、忍性、乐观、</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下无不可了之事。</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4</a:t>
            </a:r>
            <a:r>
              <a:rPr b="0" lang="zh-CN" sz="2800" spc="-1" strike="noStrike">
                <a:solidFill>
                  <a:srgbClr val="ffffff"/>
                </a:solidFill>
                <a:latin typeface="隶书"/>
                <a:ea typeface="隶书"/>
              </a:rPr>
              <a:t>）人法地、地法天、</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法道、道法自然。</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之源</a:t>
            </a:r>
            <a:endParaRPr b="0" lang="en-US" sz="44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ea typeface="隶书"/>
              </a:rPr>
              <a:t>很多人想都没想过：快乐是必须去求去找才会有的。我们都以为快乐只是一种感觉，来自碰巧发生在我们身上的好事，而那种好事会不会发生并不是我们所能主宰的。但真相正好相反：快乐主要是由我们支配的，我们应该主动争取，而非被动等待。</a:t>
            </a:r>
            <a:endParaRPr b="0" lang="en-US" sz="2800" spc="-1" strike="noStrike">
              <a:solidFill>
                <a:srgbClr val="ffffff"/>
              </a:solidFill>
              <a:latin typeface="Impact"/>
            </a:endParaRPr>
          </a:p>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人生需要克服三个障碍：</a:t>
            </a:r>
            <a:endParaRPr b="0" lang="en-US" sz="44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过于追求完美</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与别人比较</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过分注意缺憾</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8:28:52Z</dcterms:created>
  <dc:creator>yangfengchi</dc:creator>
  <dc:description/>
  <dc:language>en-US</dc:language>
  <cp:lastModifiedBy>yangfc</cp:lastModifiedBy>
  <dcterms:modified xsi:type="dcterms:W3CDTF">2005-10-12T15:56:59Z</dcterms:modified>
  <cp:revision>33</cp:revision>
  <dc:subject/>
  <dc:title>青少年心理健康讲座 </dc:title>
</cp:coreProperties>
</file>